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70E7-0007-4F0D-9E55-CC96944E13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ABE7-BB73-4958-B759-2E0CA9A30F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4488-9BAA-4F69-A1A4-E1E02BD149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ED34-E318-4107-AE83-C7347EB985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A1A1-8A2C-4EA5-88F9-3D7A31C165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C48B-76E2-482C-9810-184DDC0DF5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E8D2-DC6D-437E-AAF6-EEDF371DED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8198-4485-4861-B862-DEDBA832BF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3F94-D114-492B-A968-46329C1095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C070-D02E-4F68-82D3-97B4541A64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FD6D-38E7-4C2F-A314-F390757D9E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7D29-C491-4A7A-ABFA-7C39B97E5C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1129-48A8-425A-B9C6-CF203FA92C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0F13-1BC9-4160-9A86-4EFE1F34F1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FF58-9DCD-4DCC-BAA1-9701EAC9DC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6EBA-BAC2-4B6E-BAA6-91F6B00EAA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B7D-60CE-4530-AA3D-06EC49A8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EA3-BFC6-404E-A3BC-4259C774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2B7-0488-4953-B525-0A1C8B9E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EEE-87A0-410B-8B04-950AE8AF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B132-F52F-4C86-902A-CF1C0E0A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ACCF-5F29-47A5-AC21-E8DABBCB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860B-C235-4668-8F13-CAEB75F1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9D65-1452-45F9-9AC5-D49089A0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A80D-FEA6-4758-B55E-9940AA3D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DD5D-9975-483E-8D96-B654D790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3F1C-748C-4812-8236-07E66F37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4B4-3A85-4798-AAFB-AE1F4D30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2BFA-8B24-4E0E-9574-96E46D4A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CC95-37C3-43E2-832F-91922D8A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108C-AE6B-4126-85AD-3F5AF6C5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17CE-A99B-4A0C-84F7-3A9E9045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5B46-C6AE-4A05-953C-38CE6ABC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F5C-0A72-4878-BDB2-CE55D7DE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F2F-59F2-42DC-8890-0D8FFF79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7BA-B511-43FB-91FC-F0FD8999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A45-7AD0-4AF0-B6A1-63E2914E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14F-71B7-4720-B3EE-B3E7BEC7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C7C-9592-4E1C-BA28-74680ACF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9C7-149B-4E97-9B42-1EE70B51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2C93-F3CF-4B03-8560-B3964B3979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31F8-C416-48C4-9857-923594A0CD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ibyAJOSW8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YwxEW82Fok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dUSeEWvss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ediabistro.com/unbeige/original/retton%20m&amp;m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wY67LYzH7Q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B_cOIP9Qog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ICK WRI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AKE A MINUTE AND WRITE DOWN SOME OF YOUR FAVORITE COMMERCIALS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og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catchword or phrase used in politics or advertis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s to stay in your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ke 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 Her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ttempt to distract the audience with details not relevant to the arg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d Herring 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ing an election, a politician suggests that his opponent accepted money from a disreputable source. While the media investigates, his own shady deal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World War II, the Germans were convinced that the Allies would invade France, which was an elaborate ruse. By the time the Germans realized no attack was coming, the D-Day invasion at Normandy had succee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rs, and characters in their writings, may employ red herrings for purposes of distraction. In the Sherlock Holmes adventure "The Adventure of the Priory School," a fruitless lead in the disappearance of a young aristocrat distracts the authorities and leaves Holmes to start with a cold tra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rgain/Something for Not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a speaker suggest that the public can get something for nothing or almost noth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ess Bogo S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in Fol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using a person who represents the "typical" target of the ad to communicate the message that we are alike, and I use/buy/believe this so you should to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ndwag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 makes the appeal that “everyone is doing it, and so should you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47 cigarette 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55444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 Statement that can be tested or pro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4 out of 5 dentists recommend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rbs twice as much as liquid as the leading brand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39152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vertisemen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gnizing Strate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otional App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attempting to appeal to the consumer's psychological, social, or emotional need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ealing to emotional desires rather than log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ove Evolution Commer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Sen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trying to persuade using everyday sense of good or bad/right or wro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Above the Infl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imon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using words of an expert or famous person to persua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Jenny Cra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f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using names or pictures of famous people but not direct quo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M&amp;Ms 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ittering Gener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use of virtue words, links a person, or idea, to a positive symb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Mar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et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idea is repeated over and over in the hopes of sinking 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arget Commer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cDona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nob App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: Qualities that seem to substantiate social or intellectual pretens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want this because it’s hard to get, or not many people can afford 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ffany’s 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2:24:40Z</dcterms:created>
  <dc:creator>mfranchi</dc:creator>
  <dc:description/>
  <dc:language>en-US</dc:language>
  <cp:lastModifiedBy>UMASD</cp:lastModifiedBy>
  <cp:lastPrinted>2008-12-09T20:53:29Z</cp:lastPrinted>
  <dcterms:modified xsi:type="dcterms:W3CDTF">2012-11-28T16:13:40Z</dcterms:modified>
  <cp:revision>32</cp:revision>
  <dc:subject/>
  <dc:title>Advertisement </dc:title>
</cp:coreProperties>
</file>